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E143-1D31-456A-A601-B334AED1A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F92D-A0B5-4988-848F-B868B81DB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702-95B6-46E7-8480-9EF84958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0347-A7FD-4827-AAC6-984D630F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BBF-65FC-4676-9E03-475C6151A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8C47-8FC6-4CFF-900E-927160EB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710-88F7-44F3-A823-7216C15A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14C4-6A8D-4DAF-AB9B-F9E32B44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33F5-DF7F-4DE2-95BF-578F3222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53E-AA31-4527-9209-960A88E4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CA32-404C-4549-8BC2-E1B68F1B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759-4AC2-4EDA-B98B-A06CF9EF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EA2C-F462-40D1-9F1E-77A2073F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E92-D59F-4F09-B38B-13B48DE4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712F-0FEF-49CD-9D52-DBD5CDF37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" Target="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3400"/>
            <a:ext cx="3517920" cy="47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Af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5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stocke</cp:lastModifiedBy>
  <dcterms:modified xsi:type="dcterms:W3CDTF">2011-10-10T02:52:29Z</dcterms:modified>
  <cp:revision>118</cp:revision>
  <dc:subject/>
  <dc:title>Museum of World Stuff</dc:title>
</cp:coreProperties>
</file>